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D138-BC41-4208-AB36-974CBE43D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6117-32F9-4347-8750-F50C52240768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D61B-4D51-4CB9-9645-99DB05233F21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Čuvar mesta za broj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E462-D251-4FE1-9A7F-3EA8BD7E8DFF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6457-8610-42E1-829E-B69A763BF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D790-066D-45C6-9823-EAD0B084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E728-58F0-43DE-BCFE-D59A4AFCB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11D2-F11C-4F1A-B21A-5FB3B8571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E3A9-D258-4951-93D2-322D05420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C5CE-C707-4DBB-95B8-6412031B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377E-0B10-4F4D-B37C-A8571691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65D6-90DB-441F-AD47-F69ABF3E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A82B-9BA4-4B38-B013-88E0308C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5312-F0D8-43D6-8303-9A09F1CF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704A7-628E-4F79-8044-31D8BACB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343D-65B9-427F-84AF-28C839D8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721D-D636-47EA-80BF-4013A765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91A0-111E-4247-9E31-BE7D0BDF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4030-7CD7-4B96-80E3-0E9CE023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0055-E0EF-4480-9366-1C285E1DB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5F16C-C62A-488D-A75A-0213B30DD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944518-150B-4AEB-944A-7B947AFB262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3CE9F7-50ED-4683-888F-E040A39AE3D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CCA03A-9039-4A03-999E-CB183D6015C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B61BE9-90ED-45F0-A944-D27762434FC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4004A3-C038-4344-9312-6D2CEF6FED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40EC-D09D-495E-BE29-67584941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1CA38F-E029-414E-B7F6-3809DA16780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048385-461F-48E3-8BD8-2D416B2E515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C5B7A3-30F8-4DE2-A19C-F7A88555D11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E0C73F-672A-43ED-B621-384EDDF367D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949E62-317D-4DE0-9303-470D07F9C74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7E3462-9013-4542-A77E-7491C90E79A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CC5177-B34F-435D-9738-300EF33494F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5ADF-3F9F-4A3B-9D04-4C74D067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6D61-F459-466F-BB6E-4788FA35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DF5B-A6FE-4040-B92D-D7F24C81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39EA-381D-4A9D-89D6-96455337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BA7B-69D1-4B50-A23B-338691CF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F92C-2084-4D8F-BCF4-1D5E4C21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8A9A-82B5-4A7C-8488-37F3B6F1E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2097-C228-4E0B-BBFC-3604B2A16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0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10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211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2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3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4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5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6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7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8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9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0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1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2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3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4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5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6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7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8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9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0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1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2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33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34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5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6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7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8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9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0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1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2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3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4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5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6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7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8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9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0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1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2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3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4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5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6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7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8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9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0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1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2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63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4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265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266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7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8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7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A4FC-B02B-40E6-B06B-0A4369F6C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0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310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11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2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3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4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5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6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7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8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9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0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1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2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3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4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5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6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7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8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9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0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1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2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33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334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5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6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7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8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9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0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1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2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3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4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5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6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7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8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9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0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1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2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3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4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5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6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7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8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9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0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1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2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363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64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365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366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7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8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8858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660066"/>
                </a:solidFill>
                <a:latin typeface="Tahoma"/>
              </a:rPr>
              <a:t>КЛИНИЧКА ФИЗИКАЛНА ТЕРАПИЈА Н</a:t>
            </a:r>
            <a:r>
              <a:rPr b="1" lang="sr-BA" sz="3200" spc="-1" strike="noStrike">
                <a:solidFill>
                  <a:srgbClr val="660066"/>
                </a:solidFill>
                <a:latin typeface="Tahoma"/>
              </a:rPr>
              <a:t>АКОН ЛЕЗИЈА ПЕРИФЕРНИХ НЕРАВА ДОЊИХ ЕКСТРЕМИТЕТ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415" name="TextBox 1"/>
          <p:cNvGrpSpPr/>
          <p:nvPr/>
        </p:nvGrpSpPr>
        <p:grpSpPr>
          <a:xfrm>
            <a:off x="1712880" y="407880"/>
            <a:ext cx="6437520" cy="841320"/>
            <a:chOff x="1712880" y="407880"/>
            <a:chExt cx="6437520" cy="841320"/>
          </a:xfrm>
        </p:grpSpPr>
        <p:pic>
          <p:nvPicPr>
            <p:cNvPr id="416" name="TextBox 1" descr=""/>
            <p:cNvPicPr/>
            <p:nvPr/>
          </p:nvPicPr>
          <p:blipFill>
            <a:blip r:embed="rId1"/>
            <a:stretch/>
          </p:blipFill>
          <p:spPr>
            <a:xfrm>
              <a:off x="1712880" y="407880"/>
              <a:ext cx="64375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1828800" y="457200"/>
              <a:ext cx="626580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40458c"/>
                  </a:solidFill>
                  <a:latin typeface="Tahoma"/>
                </a:rPr>
                <a:t>Универзитет у Кр</a:t>
              </a:r>
              <a:r>
                <a:rPr b="1" lang="en-US" sz="1600" spc="-1" strike="noStrike">
                  <a:solidFill>
                    <a:srgbClr val="40458c"/>
                  </a:solidFill>
                  <a:latin typeface="Tahoma"/>
                </a:rPr>
                <a:t>a</a:t>
              </a:r>
              <a:r>
                <a:rPr b="1" lang="sr-RS" sz="1600" spc="-1" strike="noStrike">
                  <a:solidFill>
                    <a:srgbClr val="40458c"/>
                  </a:solidFill>
                  <a:latin typeface="Tahoma"/>
                </a:rPr>
                <a:t>гујевцу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900" spc="-1" strike="noStrike">
                  <a:solidFill>
                    <a:srgbClr val="40458c"/>
                  </a:solidFill>
                  <a:latin typeface="Tahoma"/>
                </a:rPr>
                <a:t>ФАКУЛТЕТ МЕДИЦИНСКИХ НАУКА</a:t>
              </a:r>
              <a:endParaRPr b="0" lang="en-US" sz="19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pic>
        <p:nvPicPr>
          <p:cNvPr id="418" name="Picture 10" descr=""/>
          <p:cNvPicPr/>
          <p:nvPr/>
        </p:nvPicPr>
        <p:blipFill>
          <a:blip r:embed="rId2"/>
          <a:stretch/>
        </p:blipFill>
        <p:spPr>
          <a:xfrm>
            <a:off x="990720" y="222120"/>
            <a:ext cx="761760" cy="103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Узроци оштећењ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761760" y="17524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1199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Коренска оштећења 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L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2-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L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3 и 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L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3-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L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4 (ДХ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1199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Трау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1199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Компресија тумором или апцесом у препонској јам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1199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Интранеурални тумор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1199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Фрактура карлиц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1199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При медицинским процедурама (катетеризација феморалне артерије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1199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Системска обољења (ДМ,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 poliarteritis nodosa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3" name="Čuvar mesta za broj slajda 1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E4BB-FA25-462F-9A7C-8202F88DBE2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spcBef>
                <a:spcPts val="1199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Бол у препони, предња стра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     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надколенице, дуж унутрашње стран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     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потколениц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1199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Поремећај сензибилитета у пределу предње стране натколенице, колена или унутрашње стране потколениц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1199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Слабост у коленима и нога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   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тешкоће при устајању и седању на столицу, ход уз степениц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   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хиперекстензија колена у стојећем положају због стабилнос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6" name="Čuvar mesta za broj slajda 1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D8BB-9363-4513-8987-EA8063607DB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Дијагностик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Клиничке слик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еуролошки преглед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Допунске дијагностик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ЛЕКТРОМИОНЕУРОГРАФИЈА (ЕМНГ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мпјутеризована томографија (ЦТ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уклеарна магнетна резонанца (НМР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адиографија (РТГ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24B3-D561-4481-9852-F7F6286E724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КЛИНИЧКИ ТЕСТОВИ КОД РАДИКУЛАРНЕ КОМПРЕСИЈЕ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685440" y="1599840"/>
            <a:ext cx="4419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Лазаревићев знак</a:t>
            </a:r>
            <a:r>
              <a:rPr b="1" lang="sr-Latn-BA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Лазаревић укрштени зна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40458c"/>
                </a:solidFill>
                <a:latin typeface="Tahoma"/>
              </a:rPr>
              <a:t>Hoover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тес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40458c"/>
                </a:solidFill>
                <a:latin typeface="Tahoma"/>
              </a:rPr>
              <a:t>Kerning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тест</a:t>
            </a:r>
            <a:r>
              <a:rPr b="1" lang="sr-Latn-BA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>
                <a:solidFill>
                  <a:srgbClr val="40458c"/>
                </a:solidFill>
                <a:latin typeface="Tahoma"/>
              </a:rPr>
              <a:t>Milgram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тест</a:t>
            </a:r>
            <a:r>
              <a:rPr b="1" lang="sr-Latn-BA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omayerov test, Walsava</a:t>
            </a: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 тест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Naffziger </a:t>
            </a: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тест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Bragart znak, Bevoor znaci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A34A-85DD-40B6-AFDC-09922B3A4CB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КЛИНИЧКИ ТЕСТОВИ КОД РАДИКУЛАРНЕ КОМПРЕСИЈЕ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Lasegueov znak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Лазаревићев знак ) – испитује се дизањем ноге екстендиране у колену у лежећем положају. Позитиван Ласегуеов знак, појава бола код одизања испружене ноге (најчешће између 30–70° флексије кука) , је чешћи код иритације корена живаца L5-S1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35F8-5DD3-4146-98F4-7B9023E3929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КЛИНИЧКИ ТЕСТОВИ КОД РАДИКУЛАРНЕ КОМПРЕСИЈЕ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ст истезања феморалног живца најчешће се изводи у лежећем потрбушном положају. Пацијент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асивно флектира колено све до пуног опсега покрета, тј. док се петом, по могућности, не дотакне стражњица. Ако се појави бол у подручју дистрибуције феморалног живца тест 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зитиван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EF85-51BD-4659-B5E3-B169139DE21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621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Физиотерапеутска процен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9144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70080" indent="-3700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егистровање трофичких и циркулаторних сметњ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иза статике (држањ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спитивање мишићне снаге (ММТ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спитивање обима покрета у зглобовима (МОП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спитивање сензибилит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рење обима екстремит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рење дужине екстремит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иза динамике (функционална анализа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spcBef>
                <a:spcPts val="601"/>
              </a:spcBef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C333-5FE0-4E20-9795-5B2A22B07FC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n.femoral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533520" y="1600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Функционална процен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ММТ за 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m.quadriceps femor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     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            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m.sartori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    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             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m.pectine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                 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m.m.iliopsoas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СЕНЗИБИЛИТЕТ: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кожу предње стране бута, унутрашње стране потколенице и унутрашње ивице стопал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a1d3c"/>
                </a:solidFill>
                <a:latin typeface="Tahoma"/>
                <a:ea typeface="Times New Roman"/>
              </a:rPr>
              <a:t>МОП: зглоб кука (флекс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  <a:ea typeface="Times New Roman"/>
              </a:rPr>
              <a:t>и</a:t>
            </a:r>
            <a:r>
              <a:rPr b="0" lang="ru-RU" sz="2400" spc="-1" strike="noStrike">
                <a:solidFill>
                  <a:srgbClr val="1a1d3c"/>
                </a:solidFill>
                <a:latin typeface="Tahoma"/>
                <a:ea typeface="Times New Roman"/>
              </a:rPr>
              <a:t>ја, аддукција, 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 спољ.ротациј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Мере обима и дужине Д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1FFA-25D2-41B5-9459-FAD77681566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n. femoral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-3884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ИЗА СТАТИКЕ: тежишна линија је померена иза кукова (хиперекстензија кукова) и испред коленог зглоба (могући настанак рекурватума колен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ИЗА ДИНАМИКЕ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тежана је флексија у куку 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емогућа је активна екстензија коле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од по неравном терену, уз степенице или устајање са столице је отежан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3312-52D7-4E13-B5D3-159C03D315A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ТЕРАПИЈ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74760" indent="-3747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ДИКАМЕНТОЗНО (кортикостероиди, вит Б...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4760" indent="-37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4760" indent="-374760">
              <a:lnSpc>
                <a:spcPct val="150000"/>
              </a:lnSpc>
              <a:spcBef>
                <a:spcPts val="499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ИРУРШКО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унутар 3 месеца од повреде, може и након годину дана</a:t>
            </a: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74760" indent="-3747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ИЗИКАЛНА ТЕРАПИЈА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циљеви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4760" indent="-3747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Створањ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оптималних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услови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з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регенерацију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тки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4760" indent="-3747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4760" indent="-3747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Одржавањ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мишића док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нерв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н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регенериш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4760" indent="-3747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4760" indent="-3747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Постизање максимално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могућег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опоравк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функ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4760" indent="-3747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4760" indent="-37476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9AA6-D5AB-499E-A92F-77912E44DE4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67652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1) Лезије нерава доњих екстремитета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2)  Компресивне неуропатије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3)  Акутна инфламаторна демијелинизирајућа полинеуропатија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4)  Дијабетесна сензомоторна полинеуропат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Физикална терапиј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365760" indent="-3657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рмотерапиј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5760" indent="-3657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арафинска паковања на лумбални део и натколеницу (30 мин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5760" indent="-3657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ТД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5760" indent="-3657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елоидна паковања 20-30 мин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5760" indent="-36576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Г:предња страна натколениц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5760" indent="-36576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С: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.quadriceps femori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(нарочито вастус медиалис због стабилизације колена); Е1 и Е2 до постизања оцене 3 према ММТ-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5760" indent="-36576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Ласеротерапија на акупунктурне тачке дуж нер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5760" indent="-36576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агнетотерапиј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5760" indent="-365760">
              <a:spcBef>
                <a:spcPts val="601"/>
              </a:spcBef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ТХ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315A-7CA8-4684-9979-6C5E79F5E15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LEXUS SACRAL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Спинални коренови и нерви 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L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4,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L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5,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S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1,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S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2,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S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3 формирају сакрални плексус или крсни сплет нера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Клинички значајан перферн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нерв ДЕ који проистиче из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сакралног плексуса ј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1a1d3c"/>
                </a:solidFill>
                <a:uFillTx/>
                <a:latin typeface="Tahoma"/>
              </a:rPr>
              <a:t>n.ischiadicus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Најдужи и најснажниј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нерв човека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41B1-6250-41CC-BDF0-0AE7D0A4F07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PLEXUS SACRAL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n.ischiadicus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главна завршна грана сакралног плексус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очне гран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n. gluteus superio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n. gluteus inferio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n. cutaneus femoris posterio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5330-AF2D-4CC8-BF19-47F4349D0F9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n.ischiadicu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-3884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већи нерв човечјег тел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 једној овојници садржи два нерва: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n.peroneus communis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n.tibiali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ункционална процен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МТ: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.semimebranos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            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.semitendinos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             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.biceceps femori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ЕНЗИБИЛИТЕТ: бол при флексији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          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бдукцији 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          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пољашњој ротациј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          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ук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A8F0-A2B5-49A1-A73F-50711EDCE7A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n.ischiadicu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ИЗА СТАТИКЕ: карлица иде у наглашену екстензију, могућа је појава рекурватума колен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ИЗА ДИНАМИКЕ: дискоординација хода, немогућност активне флексије колена клатеће ноге и дозиране екстензије колена. Нарочито изражене сметње уз и низ стрмин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FA8C-201C-4621-89B5-BFCCE3BB803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n.peroneus commun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стаје из коренова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,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,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S1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и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 затколене јаме се налази у саставу ишијадичног нерв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Завршне гран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n.cutaneus surae lateralis (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ензитивна гран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n. peroneus profundu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(моторна гран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3. n. peroneus  superficiali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(моторна гран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AD2B-4738-4F97-B199-EF8414179D3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n.peroneus commun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Segoe UI Semibold"/>
              </a:rPr>
              <a:t>Инервиш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N. peroneus profundus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: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tibialis anterio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extensor digitorum long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extensor digitorum brev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extensor hallucis long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N. peroneus superficiali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peroneus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long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peroneu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brev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1D0E-B788-48B0-89D6-9F025B9A423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n.peroneus commun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838080" y="1905120"/>
            <a:ext cx="4724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ензибилитет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латерална стране потколенице, простор између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МТ кости и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фаланге другог прста, латералне стране спољне ивице стопал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ре обима потколениц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6EBE-1688-4BBF-924B-D29D2A7E688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n.peroneus commun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ИЗА СТАТИК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топало је у плантарној флексији и аддукциј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зв “висеће стопало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ИЗА ДИНАМИК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емогућност активне дорзалне флексије, абдукције и пронације стопал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од се зове “перонеални” или “петлов ход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63CE-F656-4719-88BB-469189E631D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Узроци лезиј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10666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93120" indent="-393120">
              <a:lnSpc>
                <a:spcPct val="15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Траума (прелом проксималног дела фибуле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lnSpc>
                <a:spcPct val="15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Притисак на нерв око фибуле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lnSpc>
                <a:spcPct val="15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Компресија на нерв услед дуготрајног клечања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lnSpc>
                <a:spcPct val="15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Тумор кауде еквине или ДХ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lnSpc>
                <a:spcPct val="15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Запаљења нерва (неуритиси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lnSpc>
                <a:spcPct val="15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Компликација оперативног лечења (ПТЦ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107B-5E20-470A-96C4-7080A50D907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ПЕРИФЕРНИ НЕРВНИ СИСТЕМ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Спинални нерви 31 пар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Кичмени нерви настају спајањем вентралних (предњих) и дорзалних (задњих) коренова кичмене мождине.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Предњи корен 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(radix anterior s.motori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     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- еферетна нервна влак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Задњи корен 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(radix posterior s.sensoria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      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- аферетна нервна влак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      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-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ganlion spina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DB76-4088-4E7B-8565-4E06C64E16F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Физикална терапиј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347400" indent="-347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Г-лонгитудинална, биполарна техни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7400" indent="-347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Ф КЈ или Новокаина лонгитудиналн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7400" indent="-347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Ласеротерапија-  биостимулативни ласер на акупунктурне тачке 1 до 3 Ј/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cm²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по тачк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7400" indent="-347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агнетотерапија – пулзирајуће електромагнетно поље на ЛС сегмент или дуж нерв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7400" indent="-347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РМОТЕРАПИЈА:парафинска паковања ЛС сегмент 30 мин; ИР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5-20 мин;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ТД колено или потколеница; пелоидна паковања 20-30 мин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7A75-2AF1-4D47-BC17-77AA078EB86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Физикална терапиј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-3610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С експоненцијалним струјама лонгитудиналном биполарном или монополарном технико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араметри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з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електростимулацију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одређују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с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рем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оцени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н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мануелном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мишићном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тесту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499"/>
              </a:spcBef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Орјентациона</a:t>
            </a:r>
            <a:r>
              <a:rPr b="0" lang="en-A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дужина</a:t>
            </a:r>
            <a:r>
              <a:rPr b="0" lang="en-A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трајања</a:t>
            </a:r>
            <a:r>
              <a:rPr b="0" lang="en-A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импулса</a:t>
            </a:r>
            <a:r>
              <a:rPr b="0" lang="en-A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и</a:t>
            </a:r>
            <a:r>
              <a:rPr b="0" lang="en-A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паузе</a:t>
            </a:r>
            <a:r>
              <a:rPr b="0" lang="en-A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у</a:t>
            </a:r>
            <a:r>
              <a:rPr b="0" lang="en-A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зависности</a:t>
            </a:r>
            <a:r>
              <a:rPr b="0" lang="en-A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од</a:t>
            </a:r>
            <a:r>
              <a:rPr b="0" lang="en-A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степена</a:t>
            </a:r>
            <a:r>
              <a:rPr b="0" lang="en-A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периферне</a:t>
            </a:r>
            <a:r>
              <a:rPr b="0" lang="en-A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40458c"/>
                </a:solidFill>
                <a:latin typeface="Tahoma"/>
              </a:rPr>
              <a:t>одузетост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02880" indent="-18036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Најтежа</a:t>
            </a:r>
            <a:r>
              <a:rPr b="1" lang="en-AU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оштећења</a:t>
            </a:r>
            <a:r>
              <a:rPr b="0" lang="en-AU" sz="1800" spc="-1" strike="noStrike">
                <a:solidFill>
                  <a:srgbClr val="40458c"/>
                </a:solidFill>
                <a:latin typeface="Tahoma"/>
              </a:rPr>
              <a:t> ---------( 500-1000 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ms</a:t>
            </a:r>
            <a:r>
              <a:rPr b="0" lang="en-AU" sz="1800" spc="-1" strike="noStrike">
                <a:solidFill>
                  <a:srgbClr val="40458c"/>
                </a:solidFill>
                <a:latin typeface="Tahoma"/>
              </a:rPr>
              <a:t> / 2000 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ms</a:t>
            </a:r>
            <a:r>
              <a:rPr b="0" lang="en-AU" sz="1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902880" indent="-18036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Нешто</a:t>
            </a:r>
            <a:r>
              <a:rPr b="1" lang="en-AU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лакша</a:t>
            </a:r>
            <a:r>
              <a:rPr b="1" lang="en-AU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оштећења</a:t>
            </a:r>
            <a:r>
              <a:rPr b="0" lang="en-AU" sz="1800" spc="-1" strike="noStrike">
                <a:solidFill>
                  <a:srgbClr val="40458c"/>
                </a:solidFill>
                <a:latin typeface="Tahoma"/>
              </a:rPr>
              <a:t> ----( 250-500 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ms</a:t>
            </a:r>
            <a:r>
              <a:rPr b="0" lang="en-AU" sz="1800" spc="-1" strike="noStrike">
                <a:solidFill>
                  <a:srgbClr val="40458c"/>
                </a:solidFill>
                <a:latin typeface="Tahoma"/>
              </a:rPr>
              <a:t> / 1000 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ms</a:t>
            </a:r>
            <a:r>
              <a:rPr b="0" lang="en-AU" sz="1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902880" indent="-18036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Лака</a:t>
            </a:r>
            <a:r>
              <a:rPr b="1" lang="en-AU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оштећења</a:t>
            </a:r>
            <a:r>
              <a:rPr b="0" lang="en-AU" sz="1800" spc="-1" strike="noStrike">
                <a:solidFill>
                  <a:srgbClr val="40458c"/>
                </a:solidFill>
                <a:latin typeface="Tahoma"/>
              </a:rPr>
              <a:t> ------------( 50-125 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ms</a:t>
            </a:r>
            <a:r>
              <a:rPr b="0" lang="en-AU" sz="1800" spc="-1" strike="noStrike">
                <a:solidFill>
                  <a:srgbClr val="40458c"/>
                </a:solidFill>
                <a:latin typeface="Tahoma"/>
              </a:rPr>
              <a:t> / 250-500 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ms</a:t>
            </a:r>
            <a:r>
              <a:rPr b="0" lang="en-AU" sz="1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902880" indent="-18036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Нормалан</a:t>
            </a:r>
            <a:r>
              <a:rPr b="1" lang="en-AU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мишић</a:t>
            </a:r>
            <a:r>
              <a:rPr b="0" lang="en-AU" sz="1800" spc="-1" strike="noStrike">
                <a:solidFill>
                  <a:srgbClr val="40458c"/>
                </a:solidFill>
                <a:latin typeface="Tahoma"/>
              </a:rPr>
              <a:t> ---------------( 0,1- 3 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ms</a:t>
            </a:r>
            <a:r>
              <a:rPr b="0" lang="en-AU" sz="1800" spc="-1" strike="noStrike">
                <a:solidFill>
                  <a:srgbClr val="40458c"/>
                </a:solidFill>
                <a:latin typeface="Tahoma"/>
              </a:rPr>
              <a:t> / 20 </a:t>
            </a:r>
            <a:r>
              <a:rPr b="0" lang="sr-Latn-CS" sz="1800" spc="-1" strike="noStrike">
                <a:solidFill>
                  <a:srgbClr val="40458c"/>
                </a:solidFill>
                <a:latin typeface="Tahoma"/>
              </a:rPr>
              <a:t>ms</a:t>
            </a:r>
            <a:r>
              <a:rPr b="0" lang="en-AU" sz="1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902880" indent="-18036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4" marL="1625040" indent="-18036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40458c"/>
                </a:solidFill>
                <a:latin typeface="Tahoma"/>
              </a:rPr>
              <a:t>Е</a:t>
            </a:r>
            <a:r>
              <a:rPr b="1" lang="en-AU" sz="2000" spc="-1" strike="noStrike">
                <a:solidFill>
                  <a:srgbClr val="40458c"/>
                </a:solidFill>
                <a:latin typeface="Tahoma"/>
              </a:rPr>
              <a:t>2 </a:t>
            </a:r>
            <a:r>
              <a:rPr b="1" lang="sr-CS" sz="2000" spc="-1" strike="noStrike">
                <a:solidFill>
                  <a:srgbClr val="40458c"/>
                </a:solidFill>
                <a:latin typeface="Tahoma"/>
              </a:rPr>
              <a:t>облик</a:t>
            </a:r>
            <a:r>
              <a:rPr b="1" lang="en-AU" sz="2000" spc="-1" strike="noStrike">
                <a:solidFill>
                  <a:srgbClr val="40458c"/>
                </a:solidFill>
                <a:latin typeface="Tahoma"/>
              </a:rPr>
              <a:t>  500/2000,   </a:t>
            </a:r>
            <a:r>
              <a:rPr b="1" lang="sr-CS" sz="2000" spc="-1" strike="noStrike">
                <a:solidFill>
                  <a:srgbClr val="40458c"/>
                </a:solidFill>
                <a:latin typeface="Tahoma"/>
              </a:rPr>
              <a:t>оцена</a:t>
            </a:r>
            <a:r>
              <a:rPr b="1" lang="en-A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40458c"/>
                </a:solidFill>
                <a:latin typeface="Tahoma"/>
              </a:rPr>
              <a:t>од</a:t>
            </a:r>
            <a:r>
              <a:rPr b="1" lang="en-AU" sz="2000" spc="-1" strike="noStrike">
                <a:solidFill>
                  <a:srgbClr val="40458c"/>
                </a:solidFill>
                <a:latin typeface="Tahoma"/>
              </a:rPr>
              <a:t>  0-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625040" indent="-18036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40458c"/>
                </a:solidFill>
                <a:latin typeface="Tahoma"/>
              </a:rPr>
              <a:t>Е</a:t>
            </a:r>
            <a:r>
              <a:rPr b="1" lang="en-AU" sz="2000" spc="-1" strike="noStrike">
                <a:solidFill>
                  <a:srgbClr val="40458c"/>
                </a:solidFill>
                <a:latin typeface="Tahoma"/>
              </a:rPr>
              <a:t>1 </a:t>
            </a:r>
            <a:r>
              <a:rPr b="1" lang="sr-CS" sz="2000" spc="-1" strike="noStrike">
                <a:solidFill>
                  <a:srgbClr val="40458c"/>
                </a:solidFill>
                <a:latin typeface="Tahoma"/>
              </a:rPr>
              <a:t>облик</a:t>
            </a:r>
            <a:r>
              <a:rPr b="1" lang="en-AU" sz="2000" spc="-1" strike="noStrike">
                <a:solidFill>
                  <a:srgbClr val="40458c"/>
                </a:solidFill>
                <a:latin typeface="Tahoma"/>
              </a:rPr>
              <a:t>  250/500,    </a:t>
            </a:r>
            <a:r>
              <a:rPr b="1" lang="sr-CS" sz="2000" spc="-1" strike="noStrike">
                <a:solidFill>
                  <a:srgbClr val="40458c"/>
                </a:solidFill>
                <a:latin typeface="Tahoma"/>
              </a:rPr>
              <a:t>оцена</a:t>
            </a:r>
            <a:r>
              <a:rPr b="1" lang="en-A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CS" sz="2000" spc="-1" strike="noStrike">
                <a:solidFill>
                  <a:srgbClr val="40458c"/>
                </a:solidFill>
                <a:latin typeface="Tahoma"/>
              </a:rPr>
              <a:t>од</a:t>
            </a:r>
            <a:r>
              <a:rPr b="1" lang="en-AU" sz="2000" spc="-1" strike="noStrike">
                <a:solidFill>
                  <a:srgbClr val="40458c"/>
                </a:solidFill>
                <a:latin typeface="Tahoma"/>
              </a:rPr>
              <a:t>  2+ -4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499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28AC-20F6-431F-AE02-40673A09BF6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Физикална терапија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КИНЕЗИТЕРАПИЈА- задаци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685440" y="13712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очување физиолошког обима покрета у зглобови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обнова пуног обима покрета (ако постоји контрактур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очување моторне шеме покр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стимулација функције паретичних и паралитичних мишић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. јачање ослабљених мишић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6. јачање осталих мишића (који нису паретични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7. очување и побољшање циркулације и трофик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8. спречавање настанка ото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9. спречавање декалцификције костиј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0. обнова осетљивос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1. реедукације функ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C716-AC0F-4C62-85A5-91EE8D51023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Методе кинезитерапиј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зиционирањ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стављање индивидуалног ктх програм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ма ММ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асивн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вежбе:0, 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Активно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отпомогнут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вежбе: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Активне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ежбе: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Активн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с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отпором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вежбе:4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590F-1552-4CF0-A055-C9798B899AE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n.tibial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837720" y="1676160"/>
            <a:ext cx="4496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Од коренова L4, L5, S1, S2 и S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Мешовити нер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До затколене јаме налази се у саставу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n. ischiadicu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-а са 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.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peroneu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-о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Сензитивне гране инервишу: кожу задње стране потколенице и кожу табан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EA5D-744B-45F6-B979-D5935403C44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6" name="AutoShape 2"/>
          <p:cNvSpPr/>
          <p:nvPr/>
        </p:nvSpPr>
        <p:spPr>
          <a:xfrm>
            <a:off x="18720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n.tibial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762120" y="160020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Моторна влакна инервишу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.triceps  sura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 algn="just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. 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plantari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 algn="just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.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p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oplite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 algn="just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. 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tibialis posterio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 algn="just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. 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flexor digitorum long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 algn="just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. 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flexor hallucis long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F031-FAD2-4359-A85E-89147CB392F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660066"/>
                </a:solidFill>
                <a:latin typeface="Tahoma"/>
              </a:rPr>
              <a:t>n.tibial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365760" indent="-3657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О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5760" indent="-3657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рофичке промен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5760" indent="-3657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ИЗА СТАТИКЕ: стопало се налази у положају дорзалне флексије, абдукације и прон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5760" indent="-3657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анџасто стопало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5760" indent="-36576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ИЗА ДИНАМИК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5760" indent="-36576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ије могућ ход на прсти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5760" indent="-36576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ода ситнитним корацима, степ ход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5760" indent="-36576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слабљена адукција и супинација стопала, спуштен уздужни свод стопала (пес валгус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5760" indent="-365760">
              <a:spcBef>
                <a:spcPts val="601"/>
              </a:spcBef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емогућност аддукције, абдукције и флексије прстију стопал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DDD7-3CBF-4D53-B174-F7F2760A09C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ФИЗИКАЛНА ТЕРАПИЈ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347400" indent="-347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Г-лонгитудинална, биполарна техни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7400" indent="-347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Ф КЈ или Новокаина лонгитудиналн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7400" indent="-347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Ласеротерапија-  биостимулативни ласер на акупунктурне тачке 1 до 3 Ј/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cm²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по тачки, 1-3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i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7400" indent="-347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агнетотерапија – пулзирајуће електромагнетно поље на ЛС сегмент или дуж нерв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7400" indent="-347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РМОТЕРАПИЈА: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арафинска паковања ЛС сегмент 30 мин; ИР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5-20 мин;КТД колено или потколеница; пелоидна паковања 20-30 мин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7400" indent="-347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497F-5573-4423-8E54-3F03F1111E8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660066"/>
                </a:solidFill>
                <a:latin typeface="Tahoma"/>
              </a:rPr>
              <a:t>Физикална терапиј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9144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347400" indent="-347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С експоненцијалним струјама лонгитудиналном биполарном или монополарном технико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7400" indent="-347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араметри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з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електростимулацију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одређују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с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рем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оцени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н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мануелном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мишићном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тесту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7400" indent="-347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инезитерапиј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7400" indent="-347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ма ММ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7400" indent="-3474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асивн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вежбе:0, 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7400" indent="-3474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Активно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отпомогнут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вежбе: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7400" indent="-3474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Активне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ежбе: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7400" indent="-3474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Активн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с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отпором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вежбе:4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7400" indent="-3474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7400" indent="-3474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34F4-A909-4996-9F40-E518407C047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Компресивне неуропатије доњих екстремитет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СПИНАЛНИ НЕРВИ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д кичмене мождине полази 31 пар нерав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8 вратних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2 грудних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 слабинских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 крсних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 тртичн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пинални нерв пролази кроз међупршљенски отвор и дели се у две гране: предњу и задњ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F954-E6E5-4306-B785-0CE3A2D5000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Компресивне неуропатије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O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 кичменог стуба до мишића, коже и других органа, нерви пролазе кроз разне уске канал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екада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se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ови канали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због различити узрока сузе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што доводи до притиска и оштећења нерв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Узроци су различити и зависе од локализациј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линички се манифестује болом у пределу нерва који се специфично шири, утрнулост и мравињање одређене регије и слабост одређених мишић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737E-B8E9-45DF-8BB1-F035431F7FE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Синдром перонеалног тунел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N. peroneus communis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и пролазу кроз коштано-везивни тунел у висини врата фибуле често је изложен притиску и даје клиничку слику синдрома перонеалног канал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тиологија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гипсана имобилазација колен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уготрајно седење са прекрштеним ногама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павање на тврдој подлози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тезници за колено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ломи у пределу проксималног краја фибуле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ганглиоми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иновијалне цисте поплитеалне јам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5" name="Čuvar mesta za broj slajda 1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CC08-7C13-427D-B35E-CDA278165E9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Синдром перонеалног тунел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685440" y="1599840"/>
            <a:ext cx="4876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линичка слик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ад стопала уз слабост дорзифлексије 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губитак сензибилтета у предње бочним деловима потколенице и свода стопал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ол у подручју перонеалног тунела који се шири дистално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5D83-E5FA-407F-800F-9C776DABB11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60066"/>
                </a:solidFill>
                <a:latin typeface="Tahoma"/>
              </a:rPr>
              <a:t>Физикална терапиј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лектроаналгетске процедуре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Анодна галванизација (А на спољну страну колена, К на стопал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ДДС (ЦП+ЛП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ИФС (90-100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Hz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или 100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Hz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ТЕНС- логитудинално или трансверзалн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иостимулативни ласер 3 мин по тачк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лтразвук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мпулсно магнетно пољ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4C2B-BB84-4AE7-B677-8C3C78D89D6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609120" y="1752120"/>
            <a:ext cx="4953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1800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Мералгиа парестетика (м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ralgia paresthetica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) клиничком сликом доминирају парестезије, диестезије и хиперпатија коже у пределу спољне, латералне половине натколениц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1800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Узрок је компресивна неуропатиј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n.cutaneus femoris lateralisa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испод ингиналног канал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Копресивна неуропатија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n.cutaneus femoris lateralisa</a:t>
            </a: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4" name="Čuvar mesta za broj slajda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BA45-479D-4880-9457-C0897789126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5" name="AutoShape 6"/>
          <p:cNvSpPr/>
          <p:nvPr/>
        </p:nvSpPr>
        <p:spPr>
          <a:xfrm>
            <a:off x="18720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6" name="AutoShape 8"/>
          <p:cNvSpPr/>
          <p:nvPr/>
        </p:nvSpPr>
        <p:spPr>
          <a:xfrm>
            <a:off x="18720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Копресивна неуропатија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n.cutaneus femoris lateralisa</a:t>
            </a: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838080" y="19051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ерв је обично притиснут у горњем делу препоне где пролази кроз отвор између препонске везе и њеног припоја на коштаној бодљи бедрене кости</a:t>
            </a:r>
            <a:r>
              <a:rPr b="0" lang="vi-VN" sz="2400" spc="-1" strike="noStrike">
                <a:solidFill>
                  <a:srgbClr val="40458c"/>
                </a:solidFill>
                <a:latin typeface="Tahoma"/>
              </a:rPr>
              <a:t> (</a:t>
            </a:r>
            <a:r>
              <a:rPr b="0" i="1" lang="vi-VN" sz="2400" spc="-1" strike="noStrike">
                <a:solidFill>
                  <a:srgbClr val="40458c"/>
                </a:solidFill>
                <a:latin typeface="Tahoma"/>
              </a:rPr>
              <a:t>spina iliaca anterior superior</a:t>
            </a:r>
            <a:r>
              <a:rPr b="0" lang="vi-VN" sz="2400" spc="-1" strike="noStrike">
                <a:solidFill>
                  <a:srgbClr val="40458c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2081-2BD2-43D8-8686-E59CC21EE59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Копресивна неуропатија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n.cutaneus femoris lateralisa</a:t>
            </a: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93120" indent="-3931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зроци настанка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ошење уске одеће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ијабетес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гојазност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ошење тешког алат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жиљак у близини лигамента од претходне операције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рау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DA73-B90D-412E-9871-73DF276BA51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Копресивна неуропатија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n.cutaneus femoris lateralisa</a:t>
            </a: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-3610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Дијагноз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се поставља на бази 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линичког преглед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пунске дијагностик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Р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ТГ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МГ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Терапиј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игијенско – дијететски режим (корекција ТТ, ношење удобне одеће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дикаментозна терапија (НСАИЛ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изикална терапија - термотерапија (криотерапија, парафинтерапија), КТХ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D9B1-A05A-40FB-9AF9-35FCE8F348C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660066"/>
                </a:solidFill>
                <a:latin typeface="Tahoma"/>
              </a:rPr>
              <a:t>СИНДРОМ ТАРЗАЛНОГ КАНАЛ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762120" y="160020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истални део </a:t>
            </a:r>
            <a:r>
              <a:rPr b="1" lang="sr-Latn-CS" sz="2400" spc="-1" strike="noStrike" u="sng">
                <a:solidFill>
                  <a:srgbClr val="40458c"/>
                </a:solidFill>
                <a:uFillTx/>
                <a:latin typeface="Tahoma"/>
              </a:rPr>
              <a:t>n. tibialis-a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заједно са неколико тетива и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art.tibialis posterior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лази се у тарзалном тунелу (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canalis tarsi)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непосредно иза медијалног малеолуса у коме може бити компримован и то доводи до настанка 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синдрома тарзалног тунел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8" name="Čuvar mesta za broj slajda 1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A8DF-B0A6-4E6B-A479-6467275D931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СИНДРОМ ТАРЗАЛНОГ КАНАЛ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83808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Узроци настанк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Ишчашења или прелом скочног зглоб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Тесна и неадекватна обућ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осттрауматска фиброз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Цист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Неурином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Артрити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Тендосиновити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1" name="Čuvar mesta za broj slajda 1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81A1-6166-4E7F-B1F9-DFCD1D6544B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дње гране кичмених нерава граде нервне сплетове (изузев грудних нерава)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lexus cervical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lexus brachial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nn intercosta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lexus lumbal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.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lexus sacral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6.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plexus coccige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0AC9-D044-4EAF-AE7F-CCEBC407026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660066"/>
                </a:solidFill>
                <a:latin typeface="Tahoma"/>
              </a:rPr>
              <a:t>СИНДРОМ ТАРЗАЛНОГ КАНАЛ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линичка слик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ол и парестезије у медијалном делу табана, мравињање у подручју палца, другог и трећег прс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олесник осећа “као да хода по иглама или стаклу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ол може да се шири и проксимално све до кука, који се потенцирају при ход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D357-9242-4693-A9EB-9D9FE4364DE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660066"/>
                </a:solidFill>
                <a:latin typeface="Tahoma"/>
              </a:rPr>
              <a:t>СИНДРОМ ТАРЗАЛНОГ КАНАЛ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ијагноза се постављ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зитиван Тинелов знак, палпација и перкусија тарзалног канала изазивају парестезије и бол у табану и прсти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орсирана еверзија и дорзална флексија стопала изазивају бол у табану и прсти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пунска дијагностика:РТГ, ЕМГ, МРИ, УЗ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DF3E-B833-4FE3-8062-99E86DD2C85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СИНДРОМ ТАРЗАЛНОГ КАНАЛ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761760" y="137160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79440" indent="-3794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ТЕРАПИЈ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ортопедски улошц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краћа имобилизација, ортозе за скочни зглоб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медикаментозна терапиј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НСАИЛ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физикална 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. оперативно лечењ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09F9-192F-4A12-BC1F-6B8F8A812F5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АКУТНА ИНФЛАМАТОРНА ДЕМИЈЕЛИНИЗИРАЈУЋА ПОЛИРАДИКУЛОНЕУРОПАТИЈА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(GUILLAIN-BARRÉ SINDROM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Полинеуропатиј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ифузни поремећаји који захватају периферне нерв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еке полинеуропатије (на пр. Guillain-Barré синдром) захватају примарно моторна влакн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руге полинеуропатије (на пр.AIDS, diabetes mellitus) примарно захватају сензитивна влакн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D0D7-0C72-4251-8CEE-3CA19413D31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Акутне аутоимуне неуропат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40458c"/>
                </a:solidFill>
                <a:latin typeface="Tahoma"/>
              </a:rPr>
              <a:t>К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арактериш</a:t>
            </a:r>
            <a:r>
              <a:rPr b="0" lang="sr-RS" sz="2800" spc="-1" strike="noStrike">
                <a:solidFill>
                  <a:srgbClr val="40458c"/>
                </a:solidFill>
                <a:latin typeface="Tahoma"/>
              </a:rPr>
              <a:t>е их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- нагли почетак и прогресија болести унутар  недеље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-</a:t>
            </a:r>
            <a:r>
              <a:rPr b="0" lang="sr-R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почетку болести обично претходи бактеријска или вирусна инфекциј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- монофазни ток, ретко рецидивирају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Типичан представник је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акутни полирадикулонеуритис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(Guillain-Barre-ov sindrom) </a:t>
            </a:r>
            <a:br>
              <a:rPr sz="2800"/>
            </a:b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8D47-D463-40E6-9408-353CCA02F80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marL="443160" indent="-443160">
              <a:spcBef>
                <a:spcPts val="24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uillain-Barré синдром је акутна инфламаторна демијелинизирајућа полинеуропатиј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24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утоимуни синдром који захвата периферне нерве обично након акутне инфекције и најчешће се јавља симетрично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24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Запаљење периферних нерава доводи до смањене функције, слабости, губитка сензибилитета и на крају долази до парализе екстремитета са или без бол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АКУТНА ИНФЛАМАТОРНА ДЕМИЈЕЛИНИЗИРАЈУЋА ПОЛИРАДИКУЛОНЕУРОПАТИЈА</a:t>
            </a:r>
            <a:br>
              <a:rPr sz="36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0" name="Čuvar mesta za broj slajda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9FA5-186C-43A2-BA7D-37CFFC10328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/3 оболелих имају претходну инфекцију око 6 дана пре појаве симптома, углавном је реч о акутној упали горњих дисајних путева или гастроентеритис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сим слабости долази и до губитка осећаја у обе ноге, касније се развија и на рукам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660066"/>
                </a:solidFill>
                <a:latin typeface="Tahoma"/>
              </a:rPr>
              <a:t>АКУТНА ИНФЛАМАТОРНА ДЕМИЈЕЛИНИЗИРАЈУЋА ПОЛИРАДИКУЛОНЕУРОПАТИЈА</a:t>
            </a:r>
            <a:br>
              <a:rPr sz="24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(GUILLAIN-BARRÉ SINDROM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3" name="Čuvar mesta za broj slajda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2C0B-38B2-4266-B166-FD5114EB56C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12720" y="762120"/>
            <a:ext cx="7067520" cy="30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40458c"/>
                </a:solidFill>
                <a:latin typeface="Tahoma"/>
              </a:rPr>
              <a:t>КЛИНИЧКА СЛИК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685800" y="2362320"/>
            <a:ext cx="814392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57200" indent="-457200">
              <a:spcBef>
                <a:spcPts val="11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За постављање дијагнозе обавезна су два знака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199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1. прогресивна мишићна слабост више од једног екстремит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199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2. тотална хипо- или арефлексиј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199"/>
              </a:spcBef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199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761760" y="14475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Болест пролази кроз три фаз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11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40458c"/>
                </a:solidFill>
                <a:uFillTx/>
                <a:latin typeface="Tahoma"/>
              </a:rPr>
              <a:t>Акутни стадијум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: почиње појављивањем симптома и наставља се брзим напредовањем болести. Траје до 4 дана, а симптоми укључују бол,слабост са парализом мишића и могућом респираторном дисфункцијо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11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40458c"/>
                </a:solidFill>
                <a:uFillTx/>
                <a:latin typeface="Tahoma"/>
              </a:rPr>
              <a:t>Друга фаза је фаза платоа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када симптоми остају исти као и у акутној фази. Траје од неколико дана до неколико недељ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11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40458c"/>
                </a:solidFill>
                <a:uFillTx/>
                <a:latin typeface="Tahoma"/>
              </a:rPr>
              <a:t>Фаза опоравка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очиње када се стање пацијента почне поправљати и траје до опоравка пацијен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Клиничка слик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8" name="Čuvar mesta za broj slajda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99F3-1B86-45BF-9036-6D3FC4AE64A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Слабински сплет </a:t>
            </a:r>
            <a:r>
              <a:rPr b="1" lang="vi-VN" sz="20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1" i="1" lang="vi-VN" sz="2000" spc="-1" strike="noStrike">
                <a:solidFill>
                  <a:srgbClr val="40458c"/>
                </a:solidFill>
                <a:latin typeface="Tahoma"/>
              </a:rPr>
              <a:t>plexus lumbalis</a:t>
            </a:r>
            <a:r>
              <a:rPr b="1" lang="vi-VN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Граде га од </a:t>
            </a:r>
            <a:r>
              <a:rPr b="0" lang="vi-VN" sz="2000" spc="-1" strike="noStrike">
                <a:solidFill>
                  <a:srgbClr val="40458c"/>
                </a:solidFill>
                <a:latin typeface="Tahoma"/>
              </a:rPr>
              <a:t>1-4.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слабинског нерва</a:t>
            </a:r>
            <a:r>
              <a:rPr b="0" lang="vi-VN" sz="20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Његове најважније гране су</a:t>
            </a:r>
            <a:r>
              <a:rPr b="0" lang="vi-VN" sz="20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499"/>
              </a:spcBef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2000" spc="-1" strike="noStrike">
                <a:solidFill>
                  <a:srgbClr val="40458c"/>
                </a:solidFill>
                <a:latin typeface="Tahoma"/>
              </a:rPr>
              <a:t>n.</a:t>
            </a:r>
            <a:r>
              <a:rPr b="0" i="1" lang="sr-Latn-CS" sz="2000" spc="-1" strike="noStrike">
                <a:solidFill>
                  <a:srgbClr val="40458c"/>
                </a:solidFill>
                <a:latin typeface="Tahoma"/>
              </a:rPr>
              <a:t>f</a:t>
            </a:r>
            <a:r>
              <a:rPr b="0" i="1" lang="vi-VN" sz="2000" spc="-1" strike="noStrike">
                <a:solidFill>
                  <a:srgbClr val="40458c"/>
                </a:solidFill>
                <a:latin typeface="Tahoma"/>
              </a:rPr>
              <a:t>emoris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који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vi-VN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инервише предње мишиће  и кожу предње стране бута</a:t>
            </a:r>
            <a:r>
              <a:rPr b="0" lang="vi-VN" sz="2000" spc="-1" strike="noStrike">
                <a:solidFill>
                  <a:srgbClr val="40458c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499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2000" spc="-1" strike="noStrike">
                <a:solidFill>
                  <a:srgbClr val="40458c"/>
                </a:solidFill>
                <a:latin typeface="Tahoma"/>
              </a:rPr>
              <a:t>n. obturatorius</a:t>
            </a:r>
            <a:r>
              <a:rPr b="0" lang="vi-VN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инервише мишиће унутрашње ложе бута</a:t>
            </a:r>
            <a:r>
              <a:rPr b="0" lang="vi-VN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и кожу унутрашње стране бута</a:t>
            </a:r>
            <a:r>
              <a:rPr b="0" lang="vi-VN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499"/>
              </a:spcBef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Крсни сплет </a:t>
            </a:r>
            <a:r>
              <a:rPr b="1" lang="vi-VN" sz="20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1" i="1" lang="vi-VN" sz="2000" spc="-1" strike="noStrike">
                <a:solidFill>
                  <a:srgbClr val="40458c"/>
                </a:solidFill>
                <a:latin typeface="Tahoma"/>
              </a:rPr>
              <a:t>plexus sacralis</a:t>
            </a:r>
            <a:r>
              <a:rPr b="1" lang="vi-VN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499"/>
              </a:spcBef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Граде </a:t>
            </a:r>
            <a:r>
              <a:rPr b="0" lang="vi-VN" sz="2000" spc="-1" strike="noStrike">
                <a:solidFill>
                  <a:srgbClr val="40458c"/>
                </a:solidFill>
                <a:latin typeface="Tahoma"/>
              </a:rPr>
              <a:t>4.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и</a:t>
            </a:r>
            <a:r>
              <a:rPr b="0" lang="vi-VN" sz="2000" spc="-1" strike="noStrike">
                <a:solidFill>
                  <a:srgbClr val="40458c"/>
                </a:solidFill>
                <a:latin typeface="Tahoma"/>
              </a:rPr>
              <a:t> 5.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слабински и </a:t>
            </a:r>
            <a:r>
              <a:rPr b="0" lang="vi-VN" sz="2000" spc="-1" strike="noStrike">
                <a:solidFill>
                  <a:srgbClr val="40458c"/>
                </a:solidFill>
                <a:latin typeface="Tahoma"/>
              </a:rPr>
              <a:t> 1, 2.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и</a:t>
            </a:r>
            <a:r>
              <a:rPr b="0" lang="vi-VN" sz="2000" spc="-1" strike="noStrike">
                <a:solidFill>
                  <a:srgbClr val="40458c"/>
                </a:solidFill>
                <a:latin typeface="Tahoma"/>
              </a:rPr>
              <a:t> 3.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крсни нерви.</a:t>
            </a:r>
            <a:r>
              <a:rPr b="0" lang="vi-VN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499"/>
              </a:spcBef>
              <a:buSzPct val="1131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Најважније гране су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499"/>
              </a:spcBef>
              <a:buSzPct val="1131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1.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бочне гране које инервишу седалне мишиће</a:t>
            </a:r>
            <a:r>
              <a:rPr b="0" lang="vi-VN" sz="2000" spc="-1" strike="noStrike">
                <a:solidFill>
                  <a:srgbClr val="40458c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499"/>
              </a:spcBef>
              <a:buSzPct val="1131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2. </a:t>
            </a:r>
            <a:r>
              <a:rPr b="0" i="1" lang="vi-VN" sz="2000" spc="-1" strike="noStrike">
                <a:solidFill>
                  <a:srgbClr val="40458c"/>
                </a:solidFill>
                <a:latin typeface="Tahoma"/>
              </a:rPr>
              <a:t>n. ischiadicus</a:t>
            </a:r>
            <a:r>
              <a:rPr b="0" lang="vi-VN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инервише мишиће задње ложе бута и </a:t>
            </a:r>
            <a:r>
              <a:rPr b="0" lang="vi-VN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грана се на и лишњачки и голењачки нерв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1" name="Čuvar mesta za broj slajda 1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5165-B7C3-4F69-9004-1C8F3E321A0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Дијагностика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лектродијагности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иза цереброспиналног ликвор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иза ури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стирање на ХИ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толица на</a:t>
            </a:r>
            <a:r>
              <a:rPr b="0" lang="vi-VN" sz="2400" spc="-1" strike="noStrike">
                <a:solidFill>
                  <a:srgbClr val="40458c"/>
                </a:solidFill>
                <a:latin typeface="Tahoma"/>
              </a:rPr>
              <a:t> campylobacter jejuni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</a:t>
            </a:r>
            <a:r>
              <a:rPr b="0" lang="vi-VN" sz="2400" spc="-1" strike="noStrike">
                <a:solidFill>
                  <a:srgbClr val="40458c"/>
                </a:solidFill>
                <a:latin typeface="Tahoma"/>
              </a:rPr>
              <a:t> poliovirus,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т на ганглиозиде, анализа ЦМ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ерологија </a:t>
            </a:r>
            <a:r>
              <a:rPr b="0" lang="vi-VN" sz="2400" spc="-1" strike="noStrike">
                <a:solidFill>
                  <a:srgbClr val="40458c"/>
                </a:solidFill>
                <a:latin typeface="Tahoma"/>
              </a:rPr>
              <a:t>EPB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иру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357A-EA2C-4270-8B2C-B17682F5A6E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Терапија- медикаментозн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кортикостероид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интравенски имуноглобулини (IV Ig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плазмаферез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CFDA-2E99-4BB6-B95B-F604347C125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660066"/>
                </a:solidFill>
                <a:latin typeface="Tahoma"/>
              </a:rPr>
              <a:t>Рехабилитација</a:t>
            </a: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ма огроман значај јер код се код ових болесника очекује потпуни опорава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кон актног стадијума пацијент бива укључен у рехабилитациони третман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ехабилитација је усмерена на функционални опоравак и побољшање квалитета живота пацијен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оже да се започне са рехабилитацијом на Клиникама за неурологију или ЈИН, а касније да се настави у Рехабилитационим центри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акође се спроводи и рехабилитација у климатско-бањским лечилишти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9D3B-048F-480D-9C89-B2A21E8D4F3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Рехабилитација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Рехабилитација обухвата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1. медицинску рехабилитацију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2. психолошку рехабилитацију и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3. социјалну рехабилитацију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Неоходан је тимски рад више специјалности (лекара, терапеута, сестара, психолога, социјалних радника) ради повратка свакодневним активностма, учешћа у социјалном животу и побољшање општег квалитета живота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AC3F-0CEB-458A-A8CC-92945C7F563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Физиотерапеутска процена- акутна фаз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Субјективни преглед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мнеза, хетероанамнез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лућна функција (форсирани витални капацитет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спитивање сензибилит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улс, ТА, фреквенција дисањ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оцена постуре, покретљивости, ментално стањ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11C1-453D-406D-90FC-AF6F0971222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Физиотерапеутска процена- акутна фаз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Објективни преглед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спитивање сензибилит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оцена покретљивости МОП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спитивање мишићне слабости ММ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оцена бола: ВАС скал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оцена кранијалних нера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еспираторни стату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стови процене- Оксфорд скала, ВАС скал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0E9C-458F-43CE-978C-8B78E7A56AC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Физиотерапеутска процена- акутна фаз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Специфични проблем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вадрипарез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утоимуна дисфункција (аритмије, арест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ензитивни дефици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гашни МТР на рукама и нога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екоординисани покрети (немогућност ход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Затезање, бол у мишићи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288A-ED8E-4053-8767-D0AFBBDA6D6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Физиотерапеутска процена- акутна фаз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У акутној фази јачамо ослабљену респираторну функцију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Мобилизација секрета (ако постоји потреба механичка вентилација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Позиционирање, промена положај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Ктх програм: пасивне, активно-потпомогнуте вежбе и активне вежбе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F0FC-66E4-49B9-A6F6-1C6EC87534E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Физиотерапеутска процена- акутна фаз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Када је пацијент стабилан започиње се седење и устајање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За вертикализацију у почетку користе се помагала, ходалиц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Ако је на вештачкој вентилација такође се вертикализује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Психичка потпора уз едукацију породице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7C90-BC2B-49F0-9657-34F2623D131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Физиотерапеутска процена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субакутна фаз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оцен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трнулост/умор/бол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Губитак проприоцеп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мањена покретљивос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мпликације:контрактуре, атрофија мишића, смањена кардиореспираторна изрджљивос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стови процене: ФИМ, Оксфорд скала, ВАС   скал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9CE4-AAE3-48AA-89AC-33A6DD5E718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40458c"/>
                </a:solidFill>
                <a:latin typeface="Tahoma"/>
              </a:rPr>
              <a:t>Plexus  lumbali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24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500" spc="-1" strike="noStrike">
                <a:solidFill>
                  <a:srgbClr val="40458c"/>
                </a:solidFill>
                <a:latin typeface="Tahoma"/>
              </a:rPr>
              <a:t>Спинални коренови и нерви </a:t>
            </a:r>
            <a:r>
              <a:rPr b="0" lang="sr-Latn-CS" sz="2500" spc="-1" strike="noStrike">
                <a:solidFill>
                  <a:srgbClr val="40458c"/>
                </a:solidFill>
                <a:latin typeface="Tahoma"/>
              </a:rPr>
              <a:t>L1 - L</a:t>
            </a:r>
            <a:r>
              <a:rPr b="0" lang="en-US" sz="2500" spc="-1" strike="noStrike">
                <a:solidFill>
                  <a:srgbClr val="40458c"/>
                </a:solidFill>
                <a:latin typeface="Tahoma"/>
              </a:rPr>
              <a:t>4  формирају сплет нерва који чине лумбални плексус или слабински сплет нерава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624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500" spc="-1" strike="noStrike">
                <a:solidFill>
                  <a:srgbClr val="40458c"/>
                </a:solidFill>
                <a:latin typeface="Tahoma"/>
              </a:rPr>
              <a:t>Клинички значајан периферни нерв ДЕ који потиче из плексуса лумбалиса је </a:t>
            </a:r>
            <a:r>
              <a:rPr b="0" lang="sr-Latn-CS" sz="2500" spc="-1" strike="noStrike" u="sng">
                <a:solidFill>
                  <a:srgbClr val="40458c"/>
                </a:solidFill>
                <a:uFillTx/>
                <a:latin typeface="Tahoma"/>
              </a:rPr>
              <a:t>n.femoralis</a:t>
            </a:r>
            <a:r>
              <a:rPr b="0" lang="sr-Latn-CS" sz="25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4" name="Čuvar mesta za broj slajda 1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75EB-9F7E-4228-BA9B-E8F55B37997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Физикална терапиј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Кинезитерапиј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а</a:t>
            </a:r>
            <a:r>
              <a:rPr b="1" lang="vi-VN" sz="2400" spc="-1" strike="noStrike">
                <a:solidFill>
                  <a:srgbClr val="40458c"/>
                </a:solidFill>
                <a:latin typeface="Tahoma"/>
              </a:rPr>
              <a:t>.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Одржавање обима покрета, превенција контрактур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пасивне вежбе, активно-потпомогнуте и активне вежбе (највећи ризик ГХ, скочни зглоб, колено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позиционирањ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мобилизација грудног коша, карлице, глав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б. Примена ортоза у мировању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ади превенције контрактура зглобови се позиционирају у функционалном положају (нагласак на стопалима и шакама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EACF-CDB0-4D39-98C5-08BCD95A813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Физикална терапиј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Позиционирањ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државање оптималне позиције делова тела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њање положаја током дана и ноћи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зиционирање у што усправнијем положају за постизање оптималног засићења кисеонико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8C8C-C87F-46FA-BE79-4028E5C1907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Физикална терапија- ктх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93120" indent="-3931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Реедукација  покрет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ада је пацијент стабилан започиње се са седењем и устајањем. У почетку седи 15-20 мин. При чему је важно правилно позиционирањ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ко је минимална активна покретљивост користи се даска за верикализацију, или према функционалном статусу применити неко друго помагало за вертикализациј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 почетку дужина стајања може бити краћа од 5 мин 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еопходно је пратити виталне параметре код болесника (ТА,пулс, фреквенца дисања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Физиотерапеутска процена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стадијум опоравк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70080" indent="-3700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егистровање трофичких и циркулаторних сметњ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иза статике (држањ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спитивање мишићне снаге (ММТ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спитивање обима покрета у зглобовима (МОП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спитивање сензибилит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рење обима екстремит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рење дужине екстремит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иза динамике (функционална анализа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spcBef>
                <a:spcPts val="601"/>
              </a:spcBef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2027-86CA-4364-B974-3E3E146E65A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Физикална терапиј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15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Електротерапија- ЕС, СГ, ТЕНС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5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Ктх- према ММТ-у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5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Хидрокинезитерапија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5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Магнетотерапиј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5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Ласеротерапиј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5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Термотерапиј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700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C9E1-2040-4E98-9C97-558682207CB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858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ДИЈАБЕТЕСНА СЕНЗОМОТОРНА ПОЛИНЕУРОПАТИЈ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Дијабетесна неуропатиј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342720" indent="-3427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Неуропатија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је болест ПНС од коренова кичмене мождине до слободних нервних завршетака периферних нерав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2720" indent="-34272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чешћа је компликација дијабетеса и најучесталија болест периферних нерава у развијеним земља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2720" indent="-34272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 односу на дистрибуцију захваћених нерава класификује се н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2720" indent="-342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) симетричн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2720" indent="-342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) асимтричн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2720" indent="-34272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ц) комбиноване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1739-124F-4D67-A846-74DBF2F217F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Дистална симетрична предоминатно сензорна полинеуропатиј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837720" y="190512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Најчешћи облик, ради се о неуропатији дугих влакана, са предоминатно оштећеним аксоналним транспортом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Почиње у прстима стопала сметњама сензибилитета, полако се шири навише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Кад достигне ниво колена, непријатне сензације трњења и бола се јављају и у шакама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6AA8-B86E-47FB-AD7B-772E98A07E9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Дистална симетрична предоминатно сензорна полинеуропатиј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837720" y="190512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У одмаклој фази болести долази до развоја моторне симптоматологије – развоја хипотрофије и слабости дорзифлексора стопала, гасе се МТР (Ахилов), такође имамо и знаке аутономне неуропатије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Губитак сензибилитета доприноси честом настанку улцера стопала или деструкције дисталних зглобова (Шаркотова артропатија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7E62-1C6A-43CA-BA01-85778DE8131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Дистална симетрична полинеуропатиј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линичке манифестације дијабет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есн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неуропатије обухватају сензорне, моторне и аутономне симптом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ff0000"/>
                </a:solidFill>
                <a:uFillTx/>
                <a:latin typeface="Tahoma"/>
              </a:rPr>
              <a:t>Моторна неуропатија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доводи до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 слабљења мишића (пада стопала), неуравнотежености (настанка деформитета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ff0000"/>
                </a:solidFill>
                <a:uFillTx/>
                <a:latin typeface="Tahoma"/>
              </a:rPr>
              <a:t>Сензорна неуропатија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доводи до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→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 губитка осећаја (губитак протективног сензибилитета), губитак проприоцепције (лош баланс) склоност ка падови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ff0000"/>
                </a:solidFill>
                <a:uFillTx/>
                <a:latin typeface="Tahoma"/>
              </a:rPr>
              <a:t>Аутономна неуропатија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доводи до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→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 губитка знојења (сува,  испуцала кожа, настанак улцера).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481A-462C-4840-9200-1E363A53270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Завршне гране лумбалног плексус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83808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1. n.iliohypogastric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2. n.ilioingvinal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3. n.genitofemoral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4. n.cutaneus femoris lateral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5. n.femoral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6. n.obturatori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FED1-2818-48E2-8F90-32890FED85D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Дистална симетрична полинеуропатиј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837720" y="15238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Tahoma"/>
              </a:rPr>
              <a:t>Моторна неуропатија </a:t>
            </a:r>
            <a:r>
              <a:rPr b="0" lang="sr-Latn-CS" sz="2800" spc="-1" strike="noStrike">
                <a:solidFill>
                  <a:srgbClr val="ff0000"/>
                </a:solidFill>
                <a:latin typeface="Tahoma"/>
              </a:rPr>
              <a:t> → </a:t>
            </a:r>
            <a:r>
              <a:rPr b="0" lang="sr-CS" sz="2800" spc="-1" strike="noStrike">
                <a:solidFill>
                  <a:srgbClr val="40458c"/>
                </a:solidFill>
                <a:latin typeface="Tahoma"/>
              </a:rPr>
              <a:t>доводи до слабости мишића стопала, што даље води у  поремећај баланса између флексора и екстензора прстију стопала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40458c"/>
                </a:solidFill>
                <a:latin typeface="Tahoma"/>
              </a:rPr>
              <a:t>Атрофија малих мишића је одговорна за настанак  метатарсофалангеалне флексије, која доводи до настанка деформитета стопала ( чекићаст прст, кан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џ</a:t>
            </a:r>
            <a:r>
              <a:rPr b="0" lang="sr-CS" sz="2800" spc="-1" strike="noStrike">
                <a:solidFill>
                  <a:srgbClr val="40458c"/>
                </a:solidFill>
                <a:latin typeface="Tahoma"/>
              </a:rPr>
              <a:t>асти прсти, проминенција главице мататарзалне кости )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4E2F-4DB1-4A7E-A05C-F7442D4DCE9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Дистална симетрична полинеуропатиј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762120" y="1676520"/>
            <a:ext cx="4876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40458c"/>
                </a:solidFill>
                <a:latin typeface="Tahoma"/>
              </a:rPr>
              <a:t>Структурни деформитети су места абнормално великог притиска, и тај стални притисак може да резултира оштећењем ткива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40458c"/>
                </a:solidFill>
                <a:latin typeface="Tahoma"/>
              </a:rPr>
              <a:t>У одсуству протективног сензибилитета на тим местима су често настају улцерације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r>
              <a:rPr b="0" lang="sr-C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8207-44B0-4D35-9F34-E300B47F7FC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ФИЗИОТЕРАПЕУТСКА ПРОЦЕН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Инспек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Палп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Анализа тонус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Анализа мишићне снаге- мм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Анализа обима покрета- моп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Анализа трофик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Фукционална процена кроз специфичне тестов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Процена бола (ВАС скал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7FE8-08C3-4F2E-A2ED-ADEFFA01CE7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Физикална терапиј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римена физикалних процедура заузима значајно место у симптоматској терапији болне дијабетесне сензомоторне полинеуропатиј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Многе студије су показале значајан аналгетски ефекат примене ТЕНС терапије, импулсног магнетног поља, стабилне галванизације, кинезитерапиј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06800" indent="-4068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K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тх : снижава инсулинемију и повећава биолошка ефикасност инсулина,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долази до повећавања броја и сензитивности рецептора за инсулин (нарочито у мишићном ткиву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5422-A9F5-4C60-BC68-1A495BD1B2A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Нивои препоруке за физикалну терапију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Нефармаколошки третман код дијабетесне неуропатије за редукцију бола и побољшање физичког функционисања и квалитета живота Америчке Академије за неурологију из 2011. сврстава  електростимулацију, електромагнето терапију, ласеротерапију ниског интензитета  у препоруке нивоа Б 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Ниво доказа Б - д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кази из најмање једне, добро дизајниране експерименталне студије. Рандомизиране студије са високо лажно позитивним и/или негативним грешкама (ниска поузданост студије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C5F7-EFF0-4FA9-BCB5-3D8663991AF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1" name="Rectangle 4"/>
          <p:cNvSpPr/>
          <p:nvPr/>
        </p:nvSpPr>
        <p:spPr>
          <a:xfrm>
            <a:off x="152280" y="6280200"/>
            <a:ext cx="8991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Bril V, England J, Franklin GM, et al. </a:t>
            </a:r>
            <a:r>
              <a:rPr b="1" lang="en-US" sz="1000" spc="-1" strike="noStrike">
                <a:solidFill>
                  <a:srgbClr val="40458c"/>
                </a:solidFill>
                <a:latin typeface="Tahoma"/>
              </a:rPr>
              <a:t>Evidence-based guideline: treatment of painful diabetic neuropathy: report of the American Academy of Neurology, the American Association of Neuromuscular and Electrodiagnostic Medicine, and the American Academy of Physical Medicine and Rehabilitation</a:t>
            </a: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. </a:t>
            </a:r>
            <a:r>
              <a:rPr b="0" i="1" lang="en-US" sz="1000" spc="-1" strike="noStrike">
                <a:solidFill>
                  <a:srgbClr val="40458c"/>
                </a:solidFill>
                <a:latin typeface="Tahoma"/>
              </a:rPr>
              <a:t>Neurology. 2011</a:t>
            </a: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660066"/>
                </a:solidFill>
                <a:latin typeface="Tahoma"/>
              </a:rPr>
              <a:t>Препоруке за КТХ за пацијенте са ДМ и неуропатијом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40458c"/>
                </a:solidFill>
                <a:latin typeface="Tahoma"/>
              </a:rPr>
              <a:t>АЕРОБНЕ ВЕЖБ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-најмање 3 дана/недељн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-најмање средњег интензитета(40-60% од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VO² max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-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најмање 150 мин/недељн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-све форме вежби које укључују велике групе мишића (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оге, кукове, груди, леђа, стомак, рамена и руке)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 и доводе до убрзања срчане фреквен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-постепено повећање интензитета и/или оби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F157-B711-4B05-8960-6112FB56032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5" name="Rectangle 4"/>
          <p:cNvSpPr/>
          <p:nvPr/>
        </p:nvSpPr>
        <p:spPr>
          <a:xfrm>
            <a:off x="228600" y="627372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0458c"/>
                </a:solidFill>
                <a:latin typeface="Tahoma"/>
              </a:rPr>
              <a:t>ACSM’s guidelines for exercise testing and prescription. 8th ed. American College of Sports Medicine; 2010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660066"/>
                </a:solidFill>
                <a:latin typeface="Tahoma"/>
              </a:rPr>
              <a:t>Препоруке за КТХ за пацијенте са ДМ и неуропатијом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40458c"/>
                </a:solidFill>
                <a:latin typeface="Tahoma"/>
              </a:rPr>
              <a:t>ТРЕНИНГ ИЗДРЖЉИВОСТИ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-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најмање 2 пута недељно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-умереног до јаког интензитета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-5-10 вежби које укључују главне групе мишић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-3 до 4 сета вежб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-10 до 15 понављања по сету вежби, прогресивно повећање тежине за 8-10 понављања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-са оптерећењем или без оптерећења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-споро повећање интензитета, трајања и учесталост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2BE3-60A1-4590-8B39-2C71CA930F5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660066"/>
                </a:solidFill>
                <a:latin typeface="Tahoma"/>
              </a:rPr>
              <a:t>Препоруке за КТХ за пацијенте са ДМ и неуропатијом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40458c"/>
                </a:solidFill>
                <a:latin typeface="Tahoma"/>
              </a:rPr>
              <a:t>НАДЗИРАНИ ТРЕНИНГ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-обезбеђује оптималну корист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-смањује ризик од повред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40458c"/>
                </a:solidFill>
                <a:latin typeface="Tahoma"/>
              </a:rPr>
              <a:t>ТРЕНИНГ ЕЛАСТИЧНОСТИ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-не би требало да замени аеробни тренинг или      трениг изржљивости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-повећава обим покрета у зглобовима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-истезање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-побољшање баланс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BD66-32BC-4B9E-85DC-C59723405E8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660066"/>
                </a:solidFill>
                <a:latin typeface="Tahoma"/>
              </a:rPr>
              <a:t>n.femorali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7621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marL="294840" indent="-2948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Потиче из 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L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1,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L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2,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L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3 коренова лумбалног плексус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Мешовити нер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Инервише 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   m.quadriceps femor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                   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m.sartori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                   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m.pectine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                   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m.iliopso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Сензитивне гране (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n.cutaneus femoris anterior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 и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 nervus saphenus) 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инервишу </a:t>
            </a: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    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кожу предње и унутрашње површине надколенице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1a1d3c"/>
                </a:solidFill>
                <a:latin typeface="Tahoma"/>
              </a:rPr>
              <a:t>    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кожу унутрашње стране потколенице и стопал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0" name="Čuvar mesta za broj slajda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00F1-8A66-49E0-A48A-F7C1AA168C0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12:07:36Z</dcterms:created>
  <dc:creator>WIN98SE</dc:creator>
  <dc:description/>
  <dc:language>en-US</dc:language>
  <cp:lastModifiedBy>Windows User</cp:lastModifiedBy>
  <dcterms:modified xsi:type="dcterms:W3CDTF">2020-02-12T17:56:00Z</dcterms:modified>
  <cp:revision>953</cp:revision>
  <dc:subject/>
  <dc:title>Rehabilitacija traumatoloških bolesnika</dc:title>
</cp:coreProperties>
</file>